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493-88E4-46FB-B34D-A504546D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F82-A2B6-42D7-B196-60B31B56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2CF-4C6F-4F1B-8F73-7D27E184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DCD-2EA0-4C00-BAD3-F77722BD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D08C-D41B-4330-841B-AC16F7FF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5CFD-2A1B-4D6B-9C08-E057B8B3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5FF1-7B66-417E-92B5-19376263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6E31-1292-4BF6-8309-ADAED6BD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7B74-2DF3-4D6F-A49F-10057532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6F0D-F12B-4192-925A-981D9285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88E2-F44C-49B4-B5BC-703273F3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3D3-022C-4298-8C76-E44DC398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1978-F5EA-4386-9A21-B63E11D9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75F4-48CE-4263-AD25-86E6957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6691-4212-4ED9-8085-83666C2C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7D95-39AE-416B-836C-FCD13E37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0555-5B61-453E-BD5E-2B5FDD8D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B91-395C-4DF6-B4C0-A65323CC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607-6A2C-408C-B038-E1AEE05F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F18-6532-4348-B891-D80608D8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68D-AE92-4585-A2E2-DDB45556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099-874B-4B24-8492-3807520B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176-42F2-4A45-969D-EE4F5645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488-F063-4DA4-A807-F56E3CB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8894-5FC8-48B0-B239-2CCA91447916}" type="slidenum"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C5A1-D569-464B-ADA5-6DE82D63A361}" type="slidenum"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Open Language Archiv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3492000"/>
            <a:ext cx="7493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teven Bird, University of Pennsylvania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ary Simons, SIL Internationa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ADDA-7D9F-4499-81ED-99DD524DF8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520" y="719640"/>
            <a:ext cx="8445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inguistic Data Consortium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Data for new language technologies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SR, NLP, MT, IR, TREC, MUC, TDT, …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~200 CD-ROM publications (largest 82 CDs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&gt;1 terabyte of audio data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E.g. SWITCHBOARD Corpu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2400 transcribed telephone call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istributed on 26 CDs (web is inappropriate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Published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, ISBN, distribution mechanism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999-3510-4B9A-B113-F2C532D220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CL Natural Language Software Repository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osted by the German Foundation for AI (DFKI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oftware metadata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utho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nguistic datatype (e.g. lexicon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ile forma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052-2C7D-438C-BC6A-7141B0DF30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aking Stock: Resource Typ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und recording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hoebox of hand-written index card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escriptive grammar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ftware for creating, storing, querying and viewing language da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ormats for storage and interchange (e.g. TEI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DVIC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ailing list archives, FAQ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9F8-CE00-46BA-AFDB-ECD609B500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aking Stock: The Community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inguis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&gt;13,000 members of LINGUIS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thnologue &gt;500,000 page hits / month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nginee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~1,000 organizations which buy LDC resourc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anguage teache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rchivis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oftware develope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994-E8F7-4CCA-9291-405741701A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ndangered langua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reserving languages before they di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ndangered data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aving old recordings before they disintegrat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est practic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reating new data using XML and Unicod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nding aid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ocating resources (mailing lists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59D-FB69-4747-8D73-488B3B5880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Finding Aid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oal: “bringing like things together and differentiating among them” (Svenonius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raditional databases versus the web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etadata is coherent, but highly distributed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e need a middle ground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ottom-up, distributed initiativ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nsistent, centralized finding aid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E97-EE0A-4EB1-B923-1F9445A3DD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anguage Archives within the OAI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pecialist communities can define their own metadata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rvice providers can exploit the metadata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Philadelphia Workshop (December 2000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nguists, anthropologists, archivists, engineers, funding agencies, publisher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rth America, South America, Europe, Middle-East, Africa, Asia, Australi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Commitment to implement OAI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389-75F1-4D2B-A5EE-22A0310C08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5321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Structure of OLAC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ree groups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dvisory board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ember archiv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articipating data provider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ree phases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lpha test [Dec 2000]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ilot [Fall 2001]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perational [Fall 2002]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0" name="olac200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BFC-CC64-47DA-9C60-988DD61A16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Primary Service Provider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86200" y="1941480"/>
            <a:ext cx="465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astern Michigan Univ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&amp; Wayne State Univ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unded by NSF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&gt;13,000 members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Complete union catalog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3" name="linguist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62908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CDA-6C53-493E-B4D4-5CFC6AB03D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 Community defined by its metadata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ights.opennes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Format.opennes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ncoding scheme: RFC 1766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ubject.languag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ype.da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ype.functionali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F48-D142-4AAF-9907-3C305E5C14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he World’s Langua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pic>
        <p:nvPicPr>
          <p:cNvPr id="91" name="lang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0040" cy="50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76E-0FCB-4049-9C3B-1972EF3FD8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anguage Identification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xisting standards (ISO 639, RFC 1766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complete: 7% cover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consistent: e.g. Quechua, Bantu (other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Undocumented: only gives a nam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ssues to be addressed: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mpossible to create a static inventory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ultiple names for a langu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.g. ANLC: </a:t>
            </a: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Gwich’in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versus </a:t>
            </a: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Kutchi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ABF-141B-415C-8A3C-8C82FA27C1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759600"/>
            <a:ext cx="6046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SIL Ethnologue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e only complete language identification scheme openly available on the web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r each of 6,800 languages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anguage name and variants, 3-letter cod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opulation, locatio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inguistic classificatio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ialects, alternative names for dialec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Notes on language use and available literatur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0" name="sil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743040" cy="74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F56-8766-4021-A81A-CDF86C8D7D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Progress on Data Provider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inguistic Data Consortium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uropean Language Resources Assocatio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German Foundation for AI (DFKI)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IL Internationa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erseus Projec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laska Native Language Center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ACITO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BOLD: Comparative Bantu Online Lexical Databas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B38-FC24-457C-AC49-B5009B244A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DC Prototype Service Provider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arvests data from LDC, ELRA, DFKI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Query for “language=Bulgarian”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3124080"/>
          <a:ext cx="8077320" cy="3011760"/>
        </p:xfrm>
        <a:graphic>
          <a:graphicData uri="http://schemas.openxmlformats.org/drawingml/2006/table">
            <a:tbl>
              <a:tblPr/>
              <a:tblGrid>
                <a:gridCol w="2209680"/>
                <a:gridCol w="586764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oai:ldc:LDC95T5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0033"/>
                      </a:solidFill>
                    </a:lnR>
                    <a:lnT>
                      <a:noFill/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ECI Multilingual Text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: Albanian, </a:t>
                      </a:r>
                      <a:r>
                        <a:rPr b="1" lang="en-US" sz="20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</a:rPr>
                        <a:t>Bulgarian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, Chinese, Czech, …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Applications: IR, MT, LM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oai:elra:L0030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Bulgarian Morphological Dictionary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: </a:t>
                      </a:r>
                      <a:r>
                        <a:rPr b="1" lang="en-US" sz="20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</a:rPr>
                        <a:t>Bulgarian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67,500 entries, 242 inflectional types, …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>
                      <a:noFill/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oai:dfki:KPML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Grammar development workbench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: Spanish, Russian, Japanese, </a:t>
                      </a:r>
                      <a:r>
                        <a:rPr b="1" lang="en-US" sz="2000" spc="-1" strike="noStrike" u="sng">
                          <a:solidFill>
                            <a:srgbClr val="660033"/>
                          </a:solidFill>
                          <a:uFillTx/>
                          <a:latin typeface="Arial"/>
                        </a:rPr>
                        <a:t>Bulgarian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>
                      <a:noFill/>
                    </a:lnR>
                    <a:lnT w="5760">
                      <a:solidFill>
                        <a:srgbClr val="66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B4A-5E43-4095-B90A-CE43BE2C31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Our Experience with the OAI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xperience of OLAC alpha tester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Harvesting protoco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Dublin Cor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AI suppor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pecialized metada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OAI representative at our meeting (Michael Nelson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Solves our problem with cataloging distributed, dynamic resourc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049-2BD9-4E49-88EE-FAD2CABD80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hallenges ahead…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Large legacy catalog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leansing and exporting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hierarchical collection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verlap with other OAI group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-prints &amp; digital museum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AI as a springboard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igitization of legacy data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rmats for access in perpetuity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B05-2A80-48EB-9BB6-17B36A0748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ountries with &gt;150 langua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27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New Guine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823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dones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726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Niger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505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Ind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387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exico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ameroon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79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95680" y="2285640"/>
            <a:ext cx="402912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ustrali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35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ngo (DRC)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18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hina (PRC)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01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razil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USA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76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hilippines: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169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AA1-F36D-47C0-8970-27410B5A11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Major Language Archiv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merican Philosophical Society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Wordlists, texts, manuscripts, audio; 200 language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National Anthropological Archiv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manuscripts, field-notes, photographs, maps, video 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,300 recordings of myths, legends, stories, song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erseus Project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&gt;70 million words of Greek, Latin, English, Italian, German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boriginal Studies Electronic Data Archiv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exts, dictionaries, grammars and teaching materials 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300 Australian languages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131-622E-4789-B9B3-4F120C70D0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68364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Major European Archives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905120"/>
            <a:ext cx="820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D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Instit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 f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 Deutsche Sprache (Mannheim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BA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Bavarian Archive of Speech (Munich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ALF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Institute National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à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Langue Fran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ç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is (Paris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LACITO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Langues et Cultures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Arial"/>
              </a:rPr>
              <a:t>à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Tradition Orale (Paris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OTA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: Oxford Text Archive (Oxford)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any others …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B10-82C4-47FF-9BB0-E7F2DD8CBC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laska Native Language Center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360" y="6064200"/>
          <a:ext cx="26172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4200"/>
                    <a:ext cx="2617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unded in 1972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20 native languag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0,000 document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ext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thnographi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lace name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exicon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3,000 recording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3" name="anlc" descr=""/>
          <p:cNvPicPr/>
          <p:nvPr/>
        </p:nvPicPr>
        <p:blipFill>
          <a:blip r:embed="rId3"/>
          <a:srcRect l="22670" t="0" r="5337" b="0"/>
          <a:stretch/>
        </p:blipFill>
        <p:spPr>
          <a:xfrm>
            <a:off x="228600" y="2286000"/>
            <a:ext cx="41148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CA0-EDB3-4498-BBBD-0F879D0B5A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n ANLC Record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944720"/>
          <a:ext cx="8208720" cy="4089240"/>
        </p:xfrm>
        <a:graphic>
          <a:graphicData uri="http://schemas.openxmlformats.org/drawingml/2006/table">
            <a:tbl>
              <a:tblPr/>
              <a:tblGrid>
                <a:gridCol w="2262240"/>
                <a:gridCol w="5946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Title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Gwich’in Wordlist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1368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Author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Zimmerman, Herbert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Date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959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Language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Gwich’in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Format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Non-digital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Description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MS, 75pp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5760">
                      <a:solidFill>
                        <a:srgbClr val="660033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Description: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33"/>
                      </a:solidFill>
                    </a:lnL>
                    <a:lnR w="576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400 items based on SIL schedule</a:t>
                      </a:r>
                      <a:endParaRPr b="0" lang="en-US" sz="2800" spc="-1" strike="noStrike">
                        <a:solidFill>
                          <a:srgbClr val="66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33"/>
                      </a:solidFill>
                    </a:lnL>
                    <a:lnR w="13680">
                      <a:solidFill>
                        <a:srgbClr val="660033"/>
                      </a:solidFill>
                    </a:lnR>
                    <a:lnT w="5760">
                      <a:solidFill>
                        <a:srgbClr val="660033"/>
                      </a:solidFill>
                    </a:lnT>
                    <a:lnB w="13680">
                      <a:solidFill>
                        <a:srgbClr val="66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962520" y="1981080"/>
            <a:ext cx="4647960" cy="533520"/>
            <a:chOff x="3962520" y="1981080"/>
            <a:chExt cx="4647960" cy="533520"/>
          </a:xfrm>
        </p:grpSpPr>
        <p:sp>
          <p:nvSpPr>
            <p:cNvPr id="107" name=""/>
            <p:cNvSpPr/>
            <p:nvPr/>
          </p:nvSpPr>
          <p:spPr>
            <a:xfrm>
              <a:off x="3962520" y="1981080"/>
              <a:ext cx="1676160" cy="53352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638680" y="2286000"/>
              <a:ext cx="533520" cy="1440"/>
            </a:xfrm>
            <a:prstGeom prst="line">
              <a:avLst/>
            </a:prstGeom>
            <a:ln w="255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880" y="205740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</a:rPr>
                <a:t>RESOURCE TYPE?</a:t>
              </a:r>
              <a:endParaRPr b="0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514600" y="3276720"/>
            <a:ext cx="4724280" cy="990360"/>
            <a:chOff x="2514600" y="3276720"/>
            <a:chExt cx="4724280" cy="990360"/>
          </a:xfrm>
        </p:grpSpPr>
        <p:sp>
          <p:nvSpPr>
            <p:cNvPr id="111" name=""/>
            <p:cNvSpPr/>
            <p:nvPr/>
          </p:nvSpPr>
          <p:spPr>
            <a:xfrm>
              <a:off x="2514600" y="3733920"/>
              <a:ext cx="1676520" cy="53316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038480" y="3505320"/>
              <a:ext cx="609840" cy="304560"/>
            </a:xfrm>
            <a:prstGeom prst="line">
              <a:avLst/>
            </a:prstGeom>
            <a:ln w="255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327672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</a:rPr>
                <a:t>LANGUAGE NAME?</a:t>
              </a:r>
              <a:endParaRPr b="0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38280" y="4343400"/>
            <a:ext cx="5486400" cy="533520"/>
            <a:chOff x="2438280" y="4343400"/>
            <a:chExt cx="5486400" cy="533520"/>
          </a:xfrm>
        </p:grpSpPr>
        <p:sp>
          <p:nvSpPr>
            <p:cNvPr id="115" name=""/>
            <p:cNvSpPr/>
            <p:nvPr/>
          </p:nvSpPr>
          <p:spPr>
            <a:xfrm>
              <a:off x="2438280" y="4343400"/>
              <a:ext cx="2286000" cy="533520"/>
            </a:xfrm>
            <a:prstGeom prst="ellipse">
              <a:avLst/>
            </a:prstGeom>
            <a:noFill/>
            <a:ln w="25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723920" y="4648320"/>
              <a:ext cx="838440" cy="1440"/>
            </a:xfrm>
            <a:prstGeom prst="line">
              <a:avLst/>
            </a:prstGeom>
            <a:ln w="25560">
              <a:solidFill>
                <a:srgbClr val="00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660033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2720" y="44197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cc"/>
                  </a:solidFill>
                  <a:latin typeface="Arial"/>
                </a:rPr>
                <a:t>AVAILABILITY?</a:t>
              </a:r>
              <a:endParaRPr b="0" lang="en-US" sz="2000" spc="-1" strike="noStrike">
                <a:solidFill>
                  <a:srgbClr val="660033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BF1-23B3-41BF-A880-5951AC663C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American Indian Studies Research Institute, Indiana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58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active language lessons for American Indian langua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Multimedia dictionari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hotographic imag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20" name="pawnee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2993760" cy="361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139-58B5-4D5E-865D-11D4E2D435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UC Berkeley Survey of Californian Language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1640" y="1941480"/>
            <a:ext cx="396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90 langua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eld not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750 cassett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atalog is an HTML documen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ypical…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23" name="ca-survey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840120" cy="37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16D-F4EA-4A74-B104-37C5260F8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21:53:41Z</dcterms:created>
  <dc:creator>Steven Bird</dc:creator>
  <dc:description/>
  <dc:language>en-US</dc:language>
  <cp:lastModifiedBy>Steven Bird</cp:lastModifiedBy>
  <dcterms:modified xsi:type="dcterms:W3CDTF">2001-01-19T09:44:06Z</dcterms:modified>
  <cp:revision>42</cp:revision>
  <dc:subject/>
  <dc:title>Open Language Archives</dc:title>
</cp:coreProperties>
</file>