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ED0-6605-4949-A885-7C4C5493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FF7-AB67-40F1-891A-F93CA08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21A-27E1-4AE9-82C2-3923D62A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7CD-267D-4C3A-9AA7-4147E3EF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407-3766-4147-B7AE-ED3CEDDA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7FF2-F3A5-42D4-B576-35828EEA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9261-ECB7-4716-B07A-37C6CBC9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0DD9-7890-4039-AE31-523F9FAD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DDB3-CC88-491B-9953-96E4E64A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829-30AF-4D8A-AFB6-CAF5794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F99B-DD5A-48C6-9C64-7710CC68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9A4-E296-4ECC-B303-EF3D4F07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944A-5351-4456-90A5-A01223E4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4FA-9961-4674-A0D3-F447AAE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D7C7-AE74-4B6D-A08E-EA35B1C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E30-3F04-4B97-923B-5A8CD743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7122-F87E-4C45-A53F-F88B5DB5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2FF-608F-46B8-BB9C-8ED7F9B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A32-DFDB-48BE-A375-21E0D30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C0C-2381-419C-B379-1B241399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E42-4EDF-4818-972C-4B3E9986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BA6-A61D-48C0-AF39-823C558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1DF-041C-4F61-8C0D-96BCD6D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FD2-89EA-4740-AA8E-69565B3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C569-09A5-4DE4-A156-D6F2701BF7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44C1-4A12-4B65-A2D7-C3E2F6405A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ps.cs.odu.ed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einonline.org/OAI-script" TargetMode="External"/><Relationship Id="rId2" Type="http://schemas.openxmlformats.org/officeDocument/2006/relationships/hyperlink" Target="http://heinonline.org/OAI-script" TargetMode="External"/><Relationship Id="rId3" Type="http://schemas.openxmlformats.org/officeDocument/2006/relationships/hyperlink" Target="http://heinonline.org/OAI-scri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ahoma"/>
              </a:rPr>
              <a:t>Arc – Federated Searching Ser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urt Maly, Xiaoming Liu, M.Zubair, Michael L.Nels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ld Dominion Univers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anuary 23, 20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oa100" descr=""/>
          <p:cNvPicPr/>
          <p:nvPr/>
        </p:nvPicPr>
        <p:blipFill>
          <a:blip r:embed="rId1"/>
          <a:stretch/>
        </p:blipFill>
        <p:spPr>
          <a:xfrm>
            <a:off x="6400800" y="60948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3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adata indexed with Oracle’s context cartridge ser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 information maintained in local cac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performance reasons; result sets can be large and are manipulated in cache rather than from the RDB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re info about architecture: ECDL 2000, Maly et al., pp. 168-17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ality of data provi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expense of maintaining a quality federation service  is highly dependant on quality of data provid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rolled vocabul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unified controlled vocabulary, or at least defining mapping relationship, is important in a cross archive serv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ssons Learned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XML syntax and character encod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ingle error could influence large set of dat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haracter encoding error occurs frequently in most  data provid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 sched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use historical harvest + daily based incremental harves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rade-off between data freshness and harvest efficienc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authority file for author, organization, forma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p different subject classification system to a canonical on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full bucket suppor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service, customized collections, change the nature of the collection based on usage ... and other value added service if pos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AI alpha group and data provide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anks for the help from ODU DL Group (http://dlib.cs.odu.edu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derated searching ser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arc.cs.odu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ticipant of OAI alpha t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cs.odu.edu/~dlibug/alph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versal Preprint Servic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ups.cs.odu.edu/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itial demonstration vehicle for OA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d on NCSTRL+ which is an extension of NCSTR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cke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arch engine developed at ODU based on Oracle databa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1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ple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text across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pport boolean operator (and/o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vanced sear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across archives, or in specific archive and its subs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free text i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author/title/abstra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ield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lter search/browse by archive/set/subject/type/language/datestamp/discovery da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olled vocabulary extracted from archiv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ce (2/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sort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y datestamp,archive,relevant rank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displa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 list – NCSTRL+ like interfa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lay single document in deta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ghtweight buck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to data sour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llections being harves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47920"/>
            <a:ext cx="60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AI1.0 complian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181480"/>
            <a:ext cx="60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harvested from old SF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CR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CSTR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2133720"/>
            <a:ext cx="6553080" cy="2743200"/>
            <a:chOff x="838080" y="2133720"/>
            <a:chExt cx="6553080" cy="2743200"/>
          </a:xfrm>
        </p:grpSpPr>
        <p:grpSp>
          <p:nvGrpSpPr>
            <p:cNvPr id="223" name=""/>
            <p:cNvGrpSpPr/>
            <p:nvPr/>
          </p:nvGrpSpPr>
          <p:grpSpPr>
            <a:xfrm>
              <a:off x="846000" y="2136240"/>
              <a:ext cx="6535800" cy="2737800"/>
              <a:chOff x="846000" y="2136240"/>
              <a:chExt cx="6535800" cy="2737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846000" y="2136240"/>
                <a:ext cx="1267920" cy="496080"/>
                <a:chOff x="846000" y="2136240"/>
                <a:chExt cx="1267920" cy="496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Identifier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6000" y="21362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114280" y="2136240"/>
                <a:ext cx="5267520" cy="496080"/>
                <a:chOff x="2114280" y="2136240"/>
                <a:chExt cx="5267520" cy="4960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Full name of the archive 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114280" y="21362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46000" y="2632320"/>
                <a:ext cx="1267920" cy="376560"/>
                <a:chOff x="846000" y="2632320"/>
                <a:chExt cx="1267920" cy="376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46000" y="263232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114280" y="2632320"/>
                <a:ext cx="5267520" cy="376560"/>
                <a:chOff x="2114280" y="2632320"/>
                <a:chExt cx="5267520" cy="37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arXiv e-print archiv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114280" y="263232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46000" y="3008880"/>
                <a:ext cx="1267920" cy="496080"/>
                <a:chOff x="846000" y="3008880"/>
                <a:chExt cx="1267920" cy="496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46000" y="300888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114280" y="3008880"/>
                <a:ext cx="5267520" cy="496080"/>
                <a:chOff x="2114280" y="3008880"/>
                <a:chExt cx="5267520" cy="4960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CogPrint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14280" y="300888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46000" y="3505320"/>
                <a:ext cx="1267920" cy="495720"/>
                <a:chOff x="846000" y="3505320"/>
                <a:chExt cx="1267920" cy="495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C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6000" y="3505320"/>
                  <a:ext cx="12679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114280" y="3505320"/>
                <a:ext cx="5267520" cy="495720"/>
                <a:chOff x="2114280" y="3505320"/>
                <a:chExt cx="5267520" cy="495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ational Advisory Committee for Aeronautic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14280" y="3505320"/>
                  <a:ext cx="5267520" cy="49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846000" y="4001040"/>
                <a:ext cx="1267920" cy="496080"/>
                <a:chOff x="846000" y="4001040"/>
                <a:chExt cx="1267920" cy="4960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NDLTD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6000" y="4001040"/>
                  <a:ext cx="12679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114280" y="4001040"/>
                <a:ext cx="5267520" cy="496080"/>
                <a:chOff x="2114280" y="4001040"/>
                <a:chExt cx="5267520" cy="496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Virginia Tech Thesis/Dissertation Colle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114280" y="4001040"/>
                  <a:ext cx="5267520" cy="49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46000" y="4497480"/>
                <a:ext cx="1267920" cy="376560"/>
                <a:chOff x="846000" y="4497480"/>
                <a:chExt cx="1267920" cy="3765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TRS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46000" y="4497480"/>
                  <a:ext cx="12679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114280" y="4497480"/>
                <a:ext cx="5267520" cy="376560"/>
                <a:chOff x="2114280" y="4497480"/>
                <a:chExt cx="5267520" cy="376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"/>
                    </a:rPr>
                    <a:t>Langley Tehcnical Report Serv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4280" y="4497480"/>
                  <a:ext cx="5267520" cy="37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838080" y="2133720"/>
              <a:ext cx="655308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Harvesting - For Alpha Test Onl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240" y="5156280"/>
            <a:ext cx="9144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" y="-7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" y="6327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" y="123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" y="-463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" y="-5540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" y="674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" y="31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" y="-74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080" y="1752480"/>
            <a:ext cx="7086240" cy="4591080"/>
            <a:chOff x="838080" y="1752480"/>
            <a:chExt cx="7086240" cy="4591080"/>
          </a:xfrm>
        </p:grpSpPr>
        <p:grpSp>
          <p:nvGrpSpPr>
            <p:cNvPr id="272" name=""/>
            <p:cNvGrpSpPr/>
            <p:nvPr/>
          </p:nvGrpSpPr>
          <p:grpSpPr>
            <a:xfrm>
              <a:off x="843480" y="1756080"/>
              <a:ext cx="7074720" cy="4582440"/>
              <a:chOff x="843480" y="1756080"/>
              <a:chExt cx="7074720" cy="45824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480" y="1756080"/>
                <a:ext cx="1534680" cy="550800"/>
                <a:chOff x="843480" y="1756080"/>
                <a:chExt cx="1534680" cy="550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entifier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480" y="17560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378520" y="1756080"/>
                <a:ext cx="1468080" cy="550800"/>
                <a:chOff x="2378520" y="1756080"/>
                <a:chExt cx="1468080" cy="5508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Organiza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378520" y="17560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46960" y="1756080"/>
                <a:ext cx="4071240" cy="550800"/>
                <a:chOff x="3846960" y="1756080"/>
                <a:chExt cx="4071240" cy="550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arvest UR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46960" y="17560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843480" y="2306880"/>
                <a:ext cx="1534680" cy="550800"/>
                <a:chOff x="843480" y="2306880"/>
                <a:chExt cx="1534680" cy="550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einOnline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3480" y="230688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78520" y="2306880"/>
                <a:ext cx="1468080" cy="550800"/>
                <a:chOff x="2378520" y="2306880"/>
                <a:chExt cx="1468080" cy="550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78520" y="230688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846960" y="2306880"/>
                <a:ext cx="4071240" cy="550800"/>
                <a:chOff x="3846960" y="2306880"/>
                <a:chExt cx="4071240" cy="550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1"/>
                    </a:rPr>
                    <a:t>http://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2"/>
                    </a:rPr>
                    <a:t>heinonline</a:t>
                  </a:r>
                  <a:r>
                    <a:rPr b="0" lang="en-US" sz="1400" spc="-1" strike="noStrike" u="sng">
                      <a:solidFill>
                        <a:srgbClr val="6f89f7"/>
                      </a:solidFill>
                      <a:uFillTx/>
                      <a:latin typeface="Arial Narrow"/>
                      <a:ea typeface="Arial"/>
                      <a:hlinkClick r:id="rId3"/>
                    </a:rPr>
                    <a:t>.org/OAI-script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46960" y="230688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843480" y="2858040"/>
                <a:ext cx="1534680" cy="550800"/>
                <a:chOff x="843480" y="2858040"/>
                <a:chExt cx="1534680" cy="5508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NSDL-CU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3480" y="28580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78520" y="2858040"/>
                <a:ext cx="1468080" cy="550800"/>
                <a:chOff x="2378520" y="2858040"/>
                <a:chExt cx="1468080" cy="5508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Cornel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78520" y="28580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846960" y="2858040"/>
                <a:ext cx="4071240" cy="550800"/>
                <a:chOff x="3846960" y="2858040"/>
                <a:chExt cx="4071240" cy="550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inonline.org/OAI-NSDL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846960" y="28580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43480" y="3408840"/>
                <a:ext cx="1534680" cy="550800"/>
                <a:chOff x="843480" y="3408840"/>
                <a:chExt cx="1534680" cy="550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d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3480" y="340884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78520" y="3408840"/>
                <a:ext cx="1468080" cy="550800"/>
                <a:chOff x="2378520" y="3408840"/>
                <a:chExt cx="1468080" cy="5508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78520" y="340884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846960" y="3408840"/>
                <a:ext cx="4071240" cy="550800"/>
                <a:chOff x="3846960" y="3408840"/>
                <a:chExt cx="4071240" cy="550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ldc/test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46960" y="340884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480" y="3960000"/>
                <a:ext cx="1534680" cy="550800"/>
                <a:chOff x="843480" y="3960000"/>
                <a:chExt cx="1534680" cy="550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elra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480" y="396000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78520" y="3960000"/>
                <a:ext cx="1468080" cy="550800"/>
                <a:chOff x="2378520" y="3960000"/>
                <a:chExt cx="1468080" cy="550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Pen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78520" y="396000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846960" y="3960000"/>
                <a:ext cx="4071240" cy="550800"/>
                <a:chOff x="3846960" y="3960000"/>
                <a:chExt cx="4071240" cy="550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www.ldc.upenn.edu:85/oai/elra/elra.php3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46960" y="396000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843480" y="4511160"/>
                <a:ext cx="1534680" cy="550800"/>
                <a:chOff x="843480" y="4511160"/>
                <a:chExt cx="1534680" cy="550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coa1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43480" y="45111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78520" y="4511160"/>
                <a:ext cx="1468080" cy="550800"/>
                <a:chOff x="2378520" y="4511160"/>
                <a:chExt cx="1468080" cy="550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LO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78520" y="45111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846960" y="4511160"/>
                <a:ext cx="4071240" cy="550800"/>
                <a:chOff x="3846960" y="4511160"/>
                <a:chExt cx="4071240" cy="550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lcweb2.loc.gov/cgi-bin/oai0_9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846960" y="45111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843480" y="5061960"/>
                <a:ext cx="1534680" cy="550800"/>
                <a:chOff x="843480" y="5061960"/>
                <a:chExt cx="1534680" cy="550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tkn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43480" y="5061960"/>
                  <a:ext cx="15346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78520" y="5061960"/>
                <a:ext cx="1468080" cy="550800"/>
                <a:chOff x="2378520" y="5061960"/>
                <a:chExt cx="1468080" cy="550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TK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78520" y="5061960"/>
                  <a:ext cx="146808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846960" y="5061960"/>
                <a:ext cx="4071240" cy="550800"/>
                <a:chOff x="3846960" y="5061960"/>
                <a:chExt cx="4071240" cy="5508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helios.dii.utk.edu/cgi-bin/oai.cg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46960" y="5061960"/>
                  <a:ext cx="4071240" cy="55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43480" y="5613120"/>
                <a:ext cx="1534680" cy="725400"/>
                <a:chOff x="843480" y="5613120"/>
                <a:chExt cx="1534680" cy="72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idli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43480" y="5613120"/>
                  <a:ext cx="15346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78520" y="5613120"/>
                <a:ext cx="1468080" cy="725400"/>
                <a:chOff x="2378520" y="5613120"/>
                <a:chExt cx="1468080" cy="72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UIUC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78520" y="5613120"/>
                  <a:ext cx="146808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846960" y="5613120"/>
                <a:ext cx="4071240" cy="725400"/>
                <a:chOff x="3846960" y="5613120"/>
                <a:chExt cx="4071240" cy="72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Arial Narrow"/>
                      <a:ea typeface="Arial"/>
                    </a:rPr>
                    <a:t>http://bolder.grainger.uiuc.edu/dlibmeta/oai.asp</a:t>
                  </a: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46960" y="5613120"/>
                  <a:ext cx="4071240" cy="72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838080" y="1752480"/>
              <a:ext cx="7086240" cy="459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240" y="61117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1/3)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050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49" name="arcstructure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ation (2/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ormal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ferent archives have different format/naming conventions for specific metadata field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v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storical Harve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llected archival data published before a fixed tim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esh Harv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 incremental harvester daemon periodically fetches new published metadata from data providers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4:18:30Z</dcterms:created>
  <dc:creator>liu_x</dc:creator>
  <dc:description/>
  <dc:language>en-US</dc:language>
  <cp:lastModifiedBy>Kurt Maly</cp:lastModifiedBy>
  <dcterms:modified xsi:type="dcterms:W3CDTF">2001-01-18T12:59:06Z</dcterms:modified>
  <cp:revision>7</cp:revision>
  <dc:subject/>
  <dc:title>Arc – Federated Searching Service</dc:title>
</cp:coreProperties>
</file>