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4D3-ED01-46EA-9B5D-0CD4E1C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4CD-1544-4F92-8256-5F90F30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0FC-396D-4D9F-AF23-8A6BD0B2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A83-1CBB-4A97-8B07-4B8A63EC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054-4D80-41EC-806E-AEBDD0D5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91DE-C4E3-4C92-95D6-16BD581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5F6C-8028-4AE6-B2AD-446E3C3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396-4C26-4B8F-91CA-D80D92B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3405-351B-4387-B784-AAE315A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A9EB-213C-4249-B1DB-ACCBFABF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98B-069C-44CD-8DB4-64F7D08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BB7-18E2-4D27-9ADB-F680B153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9159-C873-413B-A7AD-4E13972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DB8-D570-4DF8-A349-06B71E1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AF53-9CEC-490F-B202-43FDBF26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CEA5-032D-4925-AAF9-8C1060B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5098-9369-4724-BD39-BD84F4D2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0F2-E396-45BB-8BDC-F60B800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144-EE63-42A0-A376-9C1972AD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583-BB70-486D-BCD9-8E2815D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3BA-943B-4333-BBBA-47FAD0D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B73-F164-4DB3-864C-AD36B9D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80E-982A-4217-8B21-9DFF625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F6E-7260-46CB-8AB3-5681FF59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B83-BC63-4BF4-8486-0DAB5D17738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975-D485-451F-B34A-FCF4C718B1F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eum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museums, vendors, relate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, testbeds, awareness, education,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community use of O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 with oth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 Repository in a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via CIMI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harvest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048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800" spc="-1" strike="noStrike">
                <a:solidFill>
                  <a:srgbClr val="115546"/>
                </a:solidFill>
                <a:latin typeface="Arial"/>
              </a:rPr>
              <a:t>http://www.cimi.org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2280" y="0"/>
            <a:ext cx="8762400" cy="762120"/>
            <a:chOff x="152280" y="0"/>
            <a:chExt cx="8762400" cy="762120"/>
          </a:xfrm>
        </p:grpSpPr>
        <p:pic>
          <p:nvPicPr>
            <p:cNvPr id="177" name="bannerdots" descr=""/>
            <p:cNvPicPr/>
            <p:nvPr/>
          </p:nvPicPr>
          <p:blipFill>
            <a:blip r:embed="rId1"/>
            <a:stretch/>
          </p:blipFill>
          <p:spPr>
            <a:xfrm>
              <a:off x="152280" y="0"/>
              <a:ext cx="8640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bannercimi" descr=""/>
            <p:cNvPicPr/>
            <p:nvPr/>
          </p:nvPicPr>
          <p:blipFill>
            <a:blip r:embed="rId2"/>
            <a:stretch/>
          </p:blipFill>
          <p:spPr>
            <a:xfrm>
              <a:off x="273600" y="228600"/>
              <a:ext cx="58111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bannerwords" descr=""/>
            <p:cNvPicPr/>
            <p:nvPr/>
          </p:nvPicPr>
          <p:blipFill>
            <a:blip r:embed="rId3"/>
            <a:stretch/>
          </p:blipFill>
          <p:spPr>
            <a:xfrm>
              <a:off x="3103560" y="628560"/>
              <a:ext cx="5811120" cy="13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Interchange &amp;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39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fo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ML,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 fo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for rich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terest in OAI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as access enabl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imple, low barrier as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to evaluate D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riendly with OAI 1.0 for muse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useums 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llection provided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 DC test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 objects and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,000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museu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4330800" cy="563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25960" y="1346040"/>
            <a:ext cx="3124080" cy="476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2600" y="1974960"/>
            <a:ext cx="1880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useum</a:t>
            </a:r>
            <a:br>
              <a:rPr sz="3600"/>
            </a:b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356868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echnical Infrastru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AI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HTTP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pplication Roadm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18288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66688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J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3505320"/>
            <a:ext cx="3733560" cy="5331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-HTTP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 Repository API_x0008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5257800"/>
            <a:ext cx="3733560" cy="7621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Of API Using My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2"/>
            <a:endCxn id="161" idx="0"/>
          </p:cNvCxnSpPr>
          <p:nvPr/>
        </p:nvCxnSpPr>
        <p:spPr>
          <a:xfrm>
            <a:off x="37717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3771720" y="32000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3771720" y="403812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8" name=""/>
          <p:cNvCxnSpPr>
            <a:stCxn id="163" idx="2"/>
            <a:endCxn id="164" idx="0"/>
          </p:cNvCxnSpPr>
          <p:nvPr/>
        </p:nvCxnSpPr>
        <p:spPr>
          <a:xfrm>
            <a:off x="3771720" y="487692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Development Proces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API for OAMS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Servlet to Interface Between HTTP/OAI Protocol Layers and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 Reference Implementation of OAMS-Compliant Repository using JDBC and 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ssues With Implementa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Query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ecur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0:56Z</dcterms:created>
  <dc:creator>Thomas Hofmann</dc:creator>
  <dc:description/>
  <dc:language>en-US</dc:language>
  <cp:lastModifiedBy>John Perkins</cp:lastModifiedBy>
  <cp:lastPrinted>1999-04-29T14:22:04Z</cp:lastPrinted>
  <dcterms:modified xsi:type="dcterms:W3CDTF">2001-01-24T05:38:47Z</dcterms:modified>
  <cp:revision>211</cp:revision>
  <dc:subject>Dublin Core</dc:subject>
  <dc:title>Using Dublin Core in Museums</dc:title>
</cp:coreProperties>
</file>