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EF84-535F-4C17-A54E-8A869342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703-E67A-42BC-9297-E4820930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530-7613-4A9D-848B-B2CE61BB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644-A92C-4DA1-A77B-60DCCAC4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1D1-123C-44F7-B831-C84858B5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516-8DAE-4B98-BFBF-5BF8BBFD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6DA-0F76-427F-9837-8CE805D4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AFB-7C42-4367-BA33-BCEFB8A0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DDE-5DAA-473D-9F95-0A136479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0D8-F2E2-4539-B0E2-C32FDF4F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923-7AEC-47EC-81CE-152C4129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BAE-9F16-43E8-BF47-4677E1C6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AB50-38DE-4D8F-998F-76D5B8F11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30640" y="1371600"/>
            <a:ext cx="281916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0A200" descr=""/>
          <p:cNvPicPr/>
          <p:nvPr/>
        </p:nvPicPr>
        <p:blipFill>
          <a:blip r:embed="rId1"/>
          <a:stretch/>
        </p:blipFill>
        <p:spPr>
          <a:xfrm>
            <a:off x="3687840" y="1695600"/>
            <a:ext cx="1904760" cy="1333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49200"/>
            <a:ext cx="9144000" cy="642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Times New Roman"/>
              </a:rPr>
              <a:t>the OAI: technical over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60" y="6248520"/>
            <a:ext cx="90676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OAI Open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Washington DC – January 2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3848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bert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de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pel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 &amp; Carl Lago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rne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iversity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Computer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HTTP encoding - response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1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460440"/>
                <a:tab algn="l" pos="682560"/>
                <a:tab algn="l" pos="91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xml version=1.0 encoding=“UTF-9” ?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GetRecor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mlns=“http://oai.namespace.uri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mlns:xsi=“http://w3.namespace.uri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si:schemaLocation=“http://oai.namespace.uri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oai.schemaURL”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sponseDate&gt;2000-19-01T19:30:30-04:00&lt;/responseDate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questURL&gt;http://an.oa.org/OAI-script?verb=GetRecor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amp;amp;identifier=oai%3AarXiv%3A0001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amp;amp;metadataPrefix=oai_dc&lt;/requestURL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record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cord conten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recor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dditional record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GetRecor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705720" y="3505320"/>
            <a:ext cx="1600200" cy="1218960"/>
            <a:chOff x="6705720" y="3505320"/>
            <a:chExt cx="1600200" cy="1218960"/>
          </a:xfrm>
        </p:grpSpPr>
        <p:sp>
          <p:nvSpPr>
            <p:cNvPr id="168" name=""/>
            <p:cNvSpPr/>
            <p:nvPr/>
          </p:nvSpPr>
          <p:spPr>
            <a:xfrm>
              <a:off x="6705720" y="35053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376236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esponse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head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705720" y="2209680"/>
            <a:ext cx="1600200" cy="1219320"/>
            <a:chOff x="6705720" y="2209680"/>
            <a:chExt cx="1600200" cy="1219320"/>
          </a:xfrm>
        </p:grpSpPr>
        <p:sp>
          <p:nvSpPr>
            <p:cNvPr id="171" name=""/>
            <p:cNvSpPr/>
            <p:nvPr/>
          </p:nvSpPr>
          <p:spPr>
            <a:xfrm>
              <a:off x="6705720" y="2209680"/>
              <a:ext cx="228600" cy="12193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0" y="246708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xml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namespa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705720" y="4800600"/>
            <a:ext cx="1600200" cy="1066680"/>
            <a:chOff x="6705720" y="4800600"/>
            <a:chExt cx="1600200" cy="1066680"/>
          </a:xfrm>
        </p:grpSpPr>
        <p:sp>
          <p:nvSpPr>
            <p:cNvPr id="174" name=""/>
            <p:cNvSpPr/>
            <p:nvPr/>
          </p:nvSpPr>
          <p:spPr>
            <a:xfrm>
              <a:off x="6705720" y="480060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0" y="505764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esponse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metadata prefix and schema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 for harvesting multiple metadata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tadata sche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ach format must have a validating XML schema at a publicly accessible URL (communities may define shared formats and sch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tadata prefi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each repository maps a prefix to the schema it supports, which is used in protocol reques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 for unqualified Dublin Core mand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rved schema URL at http://www.openarchives.org/OAI/dc.x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rved prefix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ai_d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3520" y="2590920"/>
            <a:ext cx="7086600" cy="1295280"/>
            <a:chOff x="533520" y="2590920"/>
            <a:chExt cx="7086600" cy="1295280"/>
          </a:xfrm>
        </p:grpSpPr>
        <p:grpSp>
          <p:nvGrpSpPr>
            <p:cNvPr id="180" name=""/>
            <p:cNvGrpSpPr/>
            <p:nvPr/>
          </p:nvGrpSpPr>
          <p:grpSpPr>
            <a:xfrm>
              <a:off x="533520" y="2590920"/>
              <a:ext cx="914400" cy="1295280"/>
              <a:chOff x="533520" y="2590920"/>
              <a:chExt cx="914400" cy="1295280"/>
            </a:xfrm>
          </p:grpSpPr>
          <p:sp>
            <p:nvSpPr>
              <p:cNvPr id="181" name=""/>
              <p:cNvSpPr/>
              <p:nvPr/>
            </p:nvSpPr>
            <p:spPr>
              <a:xfrm>
                <a:off x="533520" y="25909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9480" y="266688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800" y="274320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2120" y="28195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8080" y="289548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14400" y="297180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90720" y="3505320"/>
                <a:ext cx="457200" cy="380880"/>
              </a:xfrm>
              <a:prstGeom prst="flowChartPunchedTape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600200" y="3429000"/>
              <a:ext cx="6019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57400" y="2133720"/>
            <a:ext cx="3809880" cy="4176720"/>
            <a:chOff x="2057400" y="2133720"/>
            <a:chExt cx="3809880" cy="4176720"/>
          </a:xfrm>
        </p:grpSpPr>
        <p:sp>
          <p:nvSpPr>
            <p:cNvPr id="190" name=""/>
            <p:cNvSpPr/>
            <p:nvPr/>
          </p:nvSpPr>
          <p:spPr>
            <a:xfrm>
              <a:off x="3657600" y="25909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protocol requ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7600" y="3063960"/>
              <a:ext cx="213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514240" y="2425680"/>
              <a:ext cx="1066680" cy="3581280"/>
              <a:chOff x="2514240" y="2425680"/>
              <a:chExt cx="1066680" cy="3581280"/>
            </a:xfrm>
          </p:grpSpPr>
          <p:sp>
            <p:nvSpPr>
              <p:cNvPr id="193" name=""/>
              <p:cNvSpPr/>
              <p:nvPr/>
            </p:nvSpPr>
            <p:spPr>
              <a:xfrm rot="5400000">
                <a:off x="1256760" y="368280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4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09800" y="404928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2057400" y="2133720"/>
              <a:ext cx="457200" cy="4176720"/>
              <a:chOff x="2057400" y="2133720"/>
              <a:chExt cx="457200" cy="4176720"/>
            </a:xfrm>
          </p:grpSpPr>
          <p:sp>
            <p:nvSpPr>
              <p:cNvPr id="196" name=""/>
              <p:cNvSpPr/>
              <p:nvPr/>
            </p:nvSpPr>
            <p:spPr>
              <a:xfrm>
                <a:off x="2057400" y="213372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81160" y="224352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5943240" y="2146320"/>
            <a:ext cx="2743200" cy="4176720"/>
            <a:chOff x="5943240" y="2146320"/>
            <a:chExt cx="2743200" cy="4176720"/>
          </a:xfrm>
        </p:grpSpPr>
        <p:grpSp>
          <p:nvGrpSpPr>
            <p:cNvPr id="199" name=""/>
            <p:cNvGrpSpPr/>
            <p:nvPr/>
          </p:nvGrpSpPr>
          <p:grpSpPr>
            <a:xfrm>
              <a:off x="5943240" y="2146320"/>
              <a:ext cx="1524240" cy="4176720"/>
              <a:chOff x="5943240" y="2146320"/>
              <a:chExt cx="1524240" cy="417672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5943240" y="2438280"/>
                <a:ext cx="1066680" cy="3581640"/>
                <a:chOff x="5943240" y="2438280"/>
                <a:chExt cx="1066680" cy="3581640"/>
              </a:xfrm>
            </p:grpSpPr>
            <p:sp>
              <p:nvSpPr>
                <p:cNvPr id="201" name=""/>
                <p:cNvSpPr/>
                <p:nvPr/>
              </p:nvSpPr>
              <p:spPr>
                <a:xfrm rot="5400000">
                  <a:off x="4685760" y="3695760"/>
                  <a:ext cx="3581640" cy="106668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02" name="OA5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38800" y="4062240"/>
                  <a:ext cx="476280" cy="333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3" name=""/>
              <p:cNvGrpSpPr/>
              <p:nvPr/>
            </p:nvGrpSpPr>
            <p:grpSpPr>
              <a:xfrm>
                <a:off x="7010280" y="2146320"/>
                <a:ext cx="457200" cy="4176720"/>
                <a:chOff x="7010280" y="2146320"/>
                <a:chExt cx="457200" cy="41767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010280" y="2146320"/>
                  <a:ext cx="457200" cy="41767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034040" y="2256120"/>
                  <a:ext cx="401400" cy="375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nl-BE" sz="2400" spc="-1" strike="noStrike">
                      <a:solidFill>
                        <a:srgbClr val="ffffff"/>
                      </a:solidFill>
                      <a:latin typeface="Times New Roman"/>
                    </a:rPr>
                    <a:t>repos i tory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7696080" y="2286000"/>
              <a:ext cx="838440" cy="1752480"/>
              <a:chOff x="7696080" y="2286000"/>
              <a:chExt cx="838440" cy="1752480"/>
            </a:xfrm>
          </p:grpSpPr>
          <p:sp>
            <p:nvSpPr>
              <p:cNvPr id="207" name=""/>
              <p:cNvSpPr/>
              <p:nvPr/>
            </p:nvSpPr>
            <p:spPr>
              <a:xfrm>
                <a:off x="7696080" y="22860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72400" y="25146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720" y="27432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24680" y="29718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01000" y="3200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077320" y="34290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7848720" y="4114800"/>
              <a:ext cx="837720" cy="1752480"/>
              <a:chOff x="7848720" y="4114800"/>
              <a:chExt cx="837720" cy="1752480"/>
            </a:xfrm>
          </p:grpSpPr>
          <p:sp>
            <p:nvSpPr>
              <p:cNvPr id="214" name=""/>
              <p:cNvSpPr/>
              <p:nvPr/>
            </p:nvSpPr>
            <p:spPr>
              <a:xfrm>
                <a:off x="7848720" y="41148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24680" y="43434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001000" y="45720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76960" y="48006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153280" y="50292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29600" y="5257800"/>
                <a:ext cx="45684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533520" y="4038480"/>
            <a:ext cx="7086600" cy="1295640"/>
            <a:chOff x="533520" y="4038480"/>
            <a:chExt cx="7086600" cy="1295640"/>
          </a:xfrm>
        </p:grpSpPr>
        <p:grpSp>
          <p:nvGrpSpPr>
            <p:cNvPr id="221" name=""/>
            <p:cNvGrpSpPr/>
            <p:nvPr/>
          </p:nvGrpSpPr>
          <p:grpSpPr>
            <a:xfrm>
              <a:off x="533520" y="4495680"/>
              <a:ext cx="761760" cy="838440"/>
              <a:chOff x="533520" y="4495680"/>
              <a:chExt cx="761760" cy="838440"/>
            </a:xfrm>
          </p:grpSpPr>
          <p:sp>
            <p:nvSpPr>
              <p:cNvPr id="222" name=""/>
              <p:cNvSpPr/>
              <p:nvPr/>
            </p:nvSpPr>
            <p:spPr>
              <a:xfrm>
                <a:off x="533520" y="449568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9480" y="457200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5800" y="46483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2120" y="472428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8080" y="4800600"/>
                <a:ext cx="38124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14400" y="4876920"/>
                <a:ext cx="380880" cy="4572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657600" y="4511520"/>
              <a:ext cx="213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00200" y="4876920"/>
              <a:ext cx="6019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4038480"/>
              <a:ext cx="457200" cy="381240"/>
            </a:xfrm>
            <a:prstGeom prst="flowChartPunchedTap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flow control specific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es to all protocol requests that return lists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istRecor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istIdentifi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ist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ptionToken is opa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antics of partitioning of responses within resumption requests is un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-to-live of resumptionToken is not defined by the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OAI harvesting to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55400" y="2257560"/>
            <a:ext cx="44812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uppor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Metadata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205160"/>
            <a:ext cx="4572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Harvesting protocol requ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t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239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240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1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243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246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247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48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9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250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supporting protocol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35200" y="2179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64400" y="3733920"/>
            <a:ext cx="332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Repository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Base-U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Admin e-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OAI protocol 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Description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262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263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64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5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266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269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270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71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2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273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supporting protocol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642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00280" y="217980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Metadata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72400" y="3733920"/>
            <a:ext cx="32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Format pref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Format XML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286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287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8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290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293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294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95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6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297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supporting protocol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8800" y="21798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63080" y="3733920"/>
            <a:ext cx="271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et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Set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09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11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2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13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16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17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18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9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harvesting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1114560"/>
            <a:ext cx="535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from=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                    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* until=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                    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* set=kl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Records  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metadataPrefix=oai_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06080" y="3733920"/>
            <a:ext cx="250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About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32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33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34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36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39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40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1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2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43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harvesting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31400" y="3733920"/>
            <a:ext cx="19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/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54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55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56" name="OA50" descr=""/>
              <p:cNvPicPr/>
              <p:nvPr/>
            </p:nvPicPr>
            <p:blipFill>
              <a:blip r:embed="rId2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7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58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1797120" y="1327320"/>
            <a:ext cx="455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from=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until=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ListIdentifiers              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set=kl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62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63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64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5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66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protocol specification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&amp;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 enco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data prefix &amp;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 requ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ing requ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vesting requ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146160"/>
            <a:ext cx="91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ccff"/>
                </a:solidFill>
                <a:latin typeface="Times New Roman"/>
              </a:rPr>
              <a:t>harvesting requ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80" y="755640"/>
            <a:ext cx="91360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OA50" descr=""/>
          <p:cNvPicPr/>
          <p:nvPr/>
        </p:nvPicPr>
        <p:blipFill>
          <a:blip r:embed="rId1"/>
          <a:stretch/>
        </p:blipFill>
        <p:spPr>
          <a:xfrm>
            <a:off x="8515440" y="6372360"/>
            <a:ext cx="476280" cy="33336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309240" y="2286000"/>
            <a:ext cx="1066680" cy="3581280"/>
            <a:chOff x="309240" y="2286000"/>
            <a:chExt cx="1066680" cy="3581280"/>
          </a:xfrm>
        </p:grpSpPr>
        <p:sp>
          <p:nvSpPr>
            <p:cNvPr id="374" name=""/>
            <p:cNvSpPr/>
            <p:nvPr/>
          </p:nvSpPr>
          <p:spPr>
            <a:xfrm rot="5400000">
              <a:off x="-947880" y="3543120"/>
              <a:ext cx="3581280" cy="106668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75" name="OA50" descr=""/>
            <p:cNvPicPr/>
            <p:nvPr/>
          </p:nvPicPr>
          <p:blipFill>
            <a:blip r:embed="rId2"/>
            <a:stretch/>
          </p:blipFill>
          <p:spPr>
            <a:xfrm>
              <a:off x="604800" y="3909600"/>
              <a:ext cx="476280" cy="3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/>
          <p:cNvSpPr/>
          <p:nvPr/>
        </p:nvSpPr>
        <p:spPr>
          <a:xfrm>
            <a:off x="1676520" y="266688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43560" y="182880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                    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identifier=oai:mlib:123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GetRecord    * </a:t>
            </a:r>
            <a:r>
              <a:rPr b="0" i="1" lang="nl-BE" sz="2400" spc="-1" strike="noStrike">
                <a:solidFill>
                  <a:srgbClr val="b2b2b2"/>
                </a:solidFill>
                <a:latin typeface="Comic Sans MS"/>
              </a:rPr>
              <a:t>metadataPrefix=oai_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76520" y="3505320"/>
            <a:ext cx="5867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31400" y="3733920"/>
            <a:ext cx="19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Datesta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nl-BE" sz="2400" spc="-1" strike="noStrike">
                <a:solidFill>
                  <a:srgbClr val="b2b2b2"/>
                </a:solidFill>
                <a:latin typeface="Comic Sans MS"/>
              </a:rPr>
              <a:t>Ab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19760" y="1994040"/>
            <a:ext cx="1524240" cy="4176720"/>
            <a:chOff x="7619760" y="1994040"/>
            <a:chExt cx="1524240" cy="4176720"/>
          </a:xfrm>
        </p:grpSpPr>
        <p:grpSp>
          <p:nvGrpSpPr>
            <p:cNvPr id="381" name=""/>
            <p:cNvGrpSpPr/>
            <p:nvPr/>
          </p:nvGrpSpPr>
          <p:grpSpPr>
            <a:xfrm>
              <a:off x="7619760" y="2286000"/>
              <a:ext cx="1066680" cy="3581280"/>
              <a:chOff x="7619760" y="2286000"/>
              <a:chExt cx="1066680" cy="3581280"/>
            </a:xfrm>
          </p:grpSpPr>
          <p:sp>
            <p:nvSpPr>
              <p:cNvPr id="382" name=""/>
              <p:cNvSpPr/>
              <p:nvPr/>
            </p:nvSpPr>
            <p:spPr>
              <a:xfrm rot="5400000">
                <a:off x="636228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83" name="OA50" descr=""/>
              <p:cNvPicPr/>
              <p:nvPr/>
            </p:nvPicPr>
            <p:blipFill>
              <a:blip r:embed="rId3"/>
              <a:stretch/>
            </p:blipFill>
            <p:spPr>
              <a:xfrm>
                <a:off x="79153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4" name=""/>
            <p:cNvGrpSpPr/>
            <p:nvPr/>
          </p:nvGrpSpPr>
          <p:grpSpPr>
            <a:xfrm>
              <a:off x="8686800" y="1994040"/>
              <a:ext cx="457200" cy="4176720"/>
              <a:chOff x="8686800" y="1994040"/>
              <a:chExt cx="457200" cy="417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868680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710560" y="210384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76320" y="1994040"/>
            <a:ext cx="1523520" cy="4176720"/>
            <a:chOff x="76320" y="1994040"/>
            <a:chExt cx="1523520" cy="4176720"/>
          </a:xfrm>
        </p:grpSpPr>
        <p:grpSp>
          <p:nvGrpSpPr>
            <p:cNvPr id="388" name=""/>
            <p:cNvGrpSpPr/>
            <p:nvPr/>
          </p:nvGrpSpPr>
          <p:grpSpPr>
            <a:xfrm>
              <a:off x="533160" y="2286000"/>
              <a:ext cx="1066680" cy="3581280"/>
              <a:chOff x="533160" y="2286000"/>
              <a:chExt cx="1066680" cy="3581280"/>
            </a:xfrm>
          </p:grpSpPr>
          <p:sp>
            <p:nvSpPr>
              <p:cNvPr id="389" name=""/>
              <p:cNvSpPr/>
              <p:nvPr/>
            </p:nvSpPr>
            <p:spPr>
              <a:xfrm rot="5400000">
                <a:off x="-723960" y="3543120"/>
                <a:ext cx="358128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90" name="OA50" descr=""/>
              <p:cNvPicPr/>
              <p:nvPr/>
            </p:nvPicPr>
            <p:blipFill>
              <a:blip r:embed="rId4"/>
              <a:stretch/>
            </p:blipFill>
            <p:spPr>
              <a:xfrm>
                <a:off x="828720" y="3909600"/>
                <a:ext cx="4762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1" name=""/>
            <p:cNvGrpSpPr/>
            <p:nvPr/>
          </p:nvGrpSpPr>
          <p:grpSpPr>
            <a:xfrm>
              <a:off x="76320" y="1994040"/>
              <a:ext cx="457200" cy="4176720"/>
              <a:chOff x="76320" y="1994040"/>
              <a:chExt cx="457200" cy="4176720"/>
            </a:xfrm>
          </p:grpSpPr>
          <p:sp>
            <p:nvSpPr>
              <p:cNvPr id="392" name=""/>
              <p:cNvSpPr/>
              <p:nvPr/>
            </p:nvSpPr>
            <p:spPr>
              <a:xfrm>
                <a:off x="76320" y="199404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00080" y="2103840"/>
                <a:ext cx="401400" cy="33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harves 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"/>
          <p:cNvSpPr/>
          <p:nvPr/>
        </p:nvSpPr>
        <p:spPr>
          <a:xfrm>
            <a:off x="92880" y="92232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11480" y="9223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Comic Sans MS"/>
              </a:rPr>
              <a:t>data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repository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10280" y="2146320"/>
            <a:ext cx="457200" cy="4176720"/>
            <a:chOff x="7010280" y="2146320"/>
            <a:chExt cx="457200" cy="4176720"/>
          </a:xfrm>
        </p:grpSpPr>
        <p:sp>
          <p:nvSpPr>
            <p:cNvPr id="51" name=""/>
            <p:cNvSpPr/>
            <p:nvPr/>
          </p:nvSpPr>
          <p:spPr>
            <a:xfrm>
              <a:off x="7010280" y="2146320"/>
              <a:ext cx="457200" cy="41767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34040" y="2256120"/>
              <a:ext cx="40140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BE" sz="2400" spc="-1" strike="noStrike">
                  <a:solidFill>
                    <a:srgbClr val="ffffff"/>
                  </a:solidFill>
                  <a:latin typeface="Times New Roman"/>
                </a:rPr>
                <a:t>repos i 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057400" y="2146320"/>
            <a:ext cx="4952520" cy="4176720"/>
            <a:chOff x="2057400" y="2146320"/>
            <a:chExt cx="4952520" cy="4176720"/>
          </a:xfrm>
        </p:grpSpPr>
        <p:grpSp>
          <p:nvGrpSpPr>
            <p:cNvPr id="54" name=""/>
            <p:cNvGrpSpPr/>
            <p:nvPr/>
          </p:nvGrpSpPr>
          <p:grpSpPr>
            <a:xfrm>
              <a:off x="5943240" y="2438280"/>
              <a:ext cx="1066680" cy="3581640"/>
              <a:chOff x="5943240" y="2438280"/>
              <a:chExt cx="1066680" cy="3581640"/>
            </a:xfrm>
          </p:grpSpPr>
          <p:sp>
            <p:nvSpPr>
              <p:cNvPr id="55" name=""/>
              <p:cNvSpPr/>
              <p:nvPr/>
            </p:nvSpPr>
            <p:spPr>
              <a:xfrm rot="5400000">
                <a:off x="4685760" y="3695760"/>
                <a:ext cx="358164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6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6238800" y="4062240"/>
                <a:ext cx="47628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2057400" y="2146320"/>
              <a:ext cx="3733920" cy="4176720"/>
              <a:chOff x="2057400" y="2146320"/>
              <a:chExt cx="3733920" cy="4176720"/>
            </a:xfrm>
          </p:grpSpPr>
          <p:sp>
            <p:nvSpPr>
              <p:cNvPr id="58" name=""/>
              <p:cNvSpPr/>
              <p:nvPr/>
            </p:nvSpPr>
            <p:spPr>
              <a:xfrm>
                <a:off x="3657600" y="3581280"/>
                <a:ext cx="2133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86200" y="3184560"/>
                <a:ext cx="175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oai protoco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2057400" y="2146320"/>
                <a:ext cx="1523520" cy="4176720"/>
                <a:chOff x="2057400" y="2146320"/>
                <a:chExt cx="1523520" cy="41767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2514240" y="2438280"/>
                  <a:ext cx="1066680" cy="3581280"/>
                  <a:chOff x="2514240" y="2438280"/>
                  <a:chExt cx="1066680" cy="358128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 rot="5400000">
                    <a:off x="1256760" y="3695400"/>
                    <a:ext cx="3581280" cy="1066680"/>
                  </a:xfrm>
                  <a:prstGeom prst="rect">
                    <a:avLst/>
                  </a:pr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3" name="OA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4061880"/>
                    <a:ext cx="476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2057400" y="2146320"/>
                  <a:ext cx="457200" cy="4176720"/>
                  <a:chOff x="2057400" y="2146320"/>
                  <a:chExt cx="457200" cy="417672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2057400" y="2146320"/>
                    <a:ext cx="457200" cy="4176720"/>
                  </a:xfrm>
                  <a:prstGeom prst="rect">
                    <a:avLst/>
                  </a:prstGeom>
                  <a:solidFill>
                    <a:srgbClr val="009999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2081160" y="2256120"/>
                    <a:ext cx="401400" cy="338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nl-BE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rves ter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7" name=""/>
          <p:cNvGrpSpPr/>
          <p:nvPr/>
        </p:nvGrpSpPr>
        <p:grpSpPr>
          <a:xfrm>
            <a:off x="533520" y="1752480"/>
            <a:ext cx="6324480" cy="1067040"/>
            <a:chOff x="533520" y="1752480"/>
            <a:chExt cx="6324480" cy="1067040"/>
          </a:xfrm>
        </p:grpSpPr>
        <p:sp>
          <p:nvSpPr>
            <p:cNvPr id="68" name=""/>
            <p:cNvSpPr/>
            <p:nvPr/>
          </p:nvSpPr>
          <p:spPr>
            <a:xfrm>
              <a:off x="533520" y="1752480"/>
              <a:ext cx="1218960" cy="10670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pport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8800" y="228600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4724280"/>
            <a:ext cx="8305560" cy="1828800"/>
            <a:chOff x="533520" y="4724280"/>
            <a:chExt cx="8305560" cy="1828800"/>
          </a:xfrm>
        </p:grpSpPr>
        <p:grpSp>
          <p:nvGrpSpPr>
            <p:cNvPr id="71" name=""/>
            <p:cNvGrpSpPr/>
            <p:nvPr/>
          </p:nvGrpSpPr>
          <p:grpSpPr>
            <a:xfrm>
              <a:off x="7620120" y="4800600"/>
              <a:ext cx="1218600" cy="1523520"/>
              <a:chOff x="7620120" y="4800600"/>
              <a:chExt cx="1218600" cy="1523520"/>
            </a:xfrm>
          </p:grpSpPr>
          <p:sp>
            <p:nvSpPr>
              <p:cNvPr id="72" name=""/>
              <p:cNvSpPr/>
              <p:nvPr/>
            </p:nvSpPr>
            <p:spPr>
              <a:xfrm>
                <a:off x="7620120" y="480060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42160" y="4938840"/>
                <a:ext cx="365400" cy="55404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863840" y="507744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985520" y="521604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07560" y="5354280"/>
                <a:ext cx="365400" cy="55404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229600" y="549324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351280" y="5631480"/>
                <a:ext cx="365400" cy="55368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73320" y="5770080"/>
                <a:ext cx="365400" cy="554040"/>
              </a:xfrm>
              <a:prstGeom prst="foldedCorner">
                <a:avLst>
                  <a:gd name="adj" fmla="val 12500"/>
                </a:avLst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33520" y="5486400"/>
              <a:ext cx="1218960" cy="10666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arv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28800" y="6095880"/>
              <a:ext cx="60958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77320" y="47242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ite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record</a:t>
            </a: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9051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447920"/>
            <a:ext cx="5715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61880"/>
                <a:tab algn="l" pos="861840"/>
                <a:tab algn="l" pos="137304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record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dentifier&gt;oai:eg:001&lt;/identifier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stamp&gt;1999-01-01&lt;/datestamp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header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metadata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c xmlns=“http://purl.org/dc”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title&gt;My Example&lt;/title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dc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metadata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about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ea xmlns=“http://www.arXiv.org/ea”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usage&gt;No restrictions&lt;/usage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ea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about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recor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715000" y="1905120"/>
            <a:ext cx="2971800" cy="1143000"/>
            <a:chOff x="5715000" y="1905120"/>
            <a:chExt cx="2971800" cy="1143000"/>
          </a:xfrm>
        </p:grpSpPr>
        <p:sp>
          <p:nvSpPr>
            <p:cNvPr id="87" name=""/>
            <p:cNvSpPr/>
            <p:nvPr/>
          </p:nvSpPr>
          <p:spPr>
            <a:xfrm>
              <a:off x="5715000" y="190512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48"/>
                  </a:lnTo>
                  <a:cubicBezTo>
                    <a:pt x="10800" y="10148"/>
                    <a:pt x="16200" y="11048"/>
                    <a:pt x="21600" y="11048"/>
                  </a:cubicBezTo>
                  <a:cubicBezTo>
                    <a:pt x="16200" y="11048"/>
                    <a:pt x="10800" y="11948"/>
                    <a:pt x="10800" y="128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00800" y="22701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protocol sup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715000" y="3124080"/>
            <a:ext cx="2971800" cy="1295640"/>
            <a:chOff x="5715000" y="3124080"/>
            <a:chExt cx="2971800" cy="1295640"/>
          </a:xfrm>
        </p:grpSpPr>
        <p:sp>
          <p:nvSpPr>
            <p:cNvPr id="90" name=""/>
            <p:cNvSpPr/>
            <p:nvPr/>
          </p:nvSpPr>
          <p:spPr>
            <a:xfrm>
              <a:off x="5715000" y="3124080"/>
              <a:ext cx="228600" cy="12956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48"/>
                  </a:lnTo>
                  <a:cubicBezTo>
                    <a:pt x="10800" y="10148"/>
                    <a:pt x="16200" y="11048"/>
                    <a:pt x="21600" y="11048"/>
                  </a:cubicBezTo>
                  <a:cubicBezTo>
                    <a:pt x="16200" y="11048"/>
                    <a:pt x="10800" y="11948"/>
                    <a:pt x="10800" y="128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0800" y="356544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format-specific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meta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15000" y="4572000"/>
            <a:ext cx="3124080" cy="1295280"/>
            <a:chOff x="5715000" y="4572000"/>
            <a:chExt cx="3124080" cy="1295280"/>
          </a:xfrm>
        </p:grpSpPr>
        <p:sp>
          <p:nvSpPr>
            <p:cNvPr id="93" name=""/>
            <p:cNvSpPr/>
            <p:nvPr/>
          </p:nvSpPr>
          <p:spPr>
            <a:xfrm>
              <a:off x="5715000" y="4572000"/>
              <a:ext cx="228600" cy="12952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248"/>
                  </a:lnTo>
                  <a:cubicBezTo>
                    <a:pt x="10800" y="10148"/>
                    <a:pt x="16200" y="11048"/>
                    <a:pt x="21600" y="11048"/>
                  </a:cubicBezTo>
                  <a:cubicBezTo>
                    <a:pt x="16200" y="11048"/>
                    <a:pt x="10800" y="11948"/>
                    <a:pt x="10800" y="128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48520" y="493704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community-specific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record 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identifier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529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ai-identifier =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oai:archive-identifier:record-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5600" y="3071880"/>
            <a:ext cx="3079800" cy="1733040"/>
            <a:chOff x="255600" y="3071880"/>
            <a:chExt cx="3079800" cy="1733040"/>
          </a:xfrm>
        </p:grpSpPr>
        <p:sp>
          <p:nvSpPr>
            <p:cNvPr id="98" name=""/>
            <p:cNvSpPr/>
            <p:nvPr/>
          </p:nvSpPr>
          <p:spPr>
            <a:xfrm rot="16200000">
              <a:off x="3008520" y="2895480"/>
              <a:ext cx="150480" cy="50328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12960 h 503280"/>
                <a:gd name="textAreaBottom" fmla="*/ 49032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79"/>
                  </a:lnTo>
                  <a:cubicBezTo>
                    <a:pt x="10800" y="10479"/>
                    <a:pt x="5400" y="11379"/>
                    <a:pt x="0" y="11379"/>
                  </a:cubicBezTo>
                  <a:cubicBezTo>
                    <a:pt x="5400" y="11379"/>
                    <a:pt x="10800" y="12279"/>
                    <a:pt x="10800" y="1317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5600" y="3501720"/>
              <a:ext cx="2008080" cy="1303200"/>
            </a:xfrm>
            <a:prstGeom prst="wedgeEllipseCallout">
              <a:avLst>
                <a:gd name="adj1" fmla="val 90870"/>
                <a:gd name="adj2" fmla="val -69851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gistered URI Sc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96920" y="3074760"/>
            <a:ext cx="3918240" cy="3097440"/>
            <a:chOff x="1996920" y="3074760"/>
            <a:chExt cx="3918240" cy="3097440"/>
          </a:xfrm>
        </p:grpSpPr>
        <p:sp>
          <p:nvSpPr>
            <p:cNvPr id="101" name=""/>
            <p:cNvSpPr/>
            <p:nvPr/>
          </p:nvSpPr>
          <p:spPr>
            <a:xfrm rot="16200000">
              <a:off x="4591080" y="1887120"/>
              <a:ext cx="136440" cy="2511720"/>
            </a:xfrm>
            <a:custGeom>
              <a:avLst/>
              <a:gdLst>
                <a:gd name="textAreaLeft" fmla="*/ 87120 w 136440"/>
                <a:gd name="textAreaRight" fmla="*/ 136800 w 136440"/>
                <a:gd name="textAreaTop" fmla="*/ 65160 h 2511720"/>
                <a:gd name="textAreaBottom" fmla="*/ 2446560 h 251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96920" y="4869000"/>
              <a:ext cx="2967120" cy="1303200"/>
            </a:xfrm>
            <a:prstGeom prst="wedgeEllipseCallout">
              <a:avLst>
                <a:gd name="adj1" fmla="val 38226"/>
                <a:gd name="adj2" fmla="val -167541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rchive Idendifier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gistered within O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743440" y="3060720"/>
            <a:ext cx="3164040" cy="2706840"/>
            <a:chOff x="5743440" y="3060720"/>
            <a:chExt cx="3164040" cy="2706840"/>
          </a:xfrm>
        </p:grpSpPr>
        <p:sp>
          <p:nvSpPr>
            <p:cNvPr id="104" name=""/>
            <p:cNvSpPr/>
            <p:nvPr/>
          </p:nvSpPr>
          <p:spPr>
            <a:xfrm rot="16200000">
              <a:off x="7125120" y="1932840"/>
              <a:ext cx="120960" cy="2376360"/>
            </a:xfrm>
            <a:custGeom>
              <a:avLst/>
              <a:gdLst>
                <a:gd name="textAreaLeft" fmla="*/ 77400 w 120960"/>
                <a:gd name="textAreaRight" fmla="*/ 121320 w 12096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79"/>
                  </a:lnTo>
                  <a:cubicBezTo>
                    <a:pt x="10800" y="10479"/>
                    <a:pt x="5400" y="11379"/>
                    <a:pt x="0" y="11379"/>
                  </a:cubicBezTo>
                  <a:cubicBezTo>
                    <a:pt x="5400" y="11379"/>
                    <a:pt x="10800" y="12279"/>
                    <a:pt x="10800" y="1317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3440" y="4059360"/>
              <a:ext cx="3164040" cy="1708200"/>
            </a:xfrm>
            <a:prstGeom prst="wedgeEllipseCallout">
              <a:avLst>
                <a:gd name="adj1" fmla="val -3236"/>
                <a:gd name="adj2" fmla="val -9674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nique ID within archiv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syntax is archive-specifi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62120" y="48481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= </a:t>
            </a:r>
            <a:r>
              <a:rPr b="0" lang="en-US" sz="2800" spc="-1" strike="noStrike">
                <a:solidFill>
                  <a:srgbClr val="ffffff"/>
                </a:solidFill>
                <a:latin typeface="Bell MT"/>
              </a:rPr>
              <a:t>oai:ncstrl:ncstrl.cornellcs/TR94-14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2952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cally unique key for extracting a record from 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09680"/>
            <a:ext cx="81532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selective harvesting - datestamp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943240" y="2146320"/>
            <a:ext cx="1524240" cy="4176720"/>
            <a:chOff x="5943240" y="2146320"/>
            <a:chExt cx="1524240" cy="4176720"/>
          </a:xfrm>
        </p:grpSpPr>
        <p:grpSp>
          <p:nvGrpSpPr>
            <p:cNvPr id="111" name=""/>
            <p:cNvGrpSpPr/>
            <p:nvPr/>
          </p:nvGrpSpPr>
          <p:grpSpPr>
            <a:xfrm>
              <a:off x="5943240" y="2438280"/>
              <a:ext cx="1066680" cy="3581640"/>
              <a:chOff x="5943240" y="2438280"/>
              <a:chExt cx="1066680" cy="3581640"/>
            </a:xfrm>
          </p:grpSpPr>
          <p:sp>
            <p:nvSpPr>
              <p:cNvPr id="112" name=""/>
              <p:cNvSpPr/>
              <p:nvPr/>
            </p:nvSpPr>
            <p:spPr>
              <a:xfrm rot="5400000">
                <a:off x="4685760" y="3695760"/>
                <a:ext cx="358164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13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6238800" y="4062240"/>
                <a:ext cx="47628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7010280" y="2146320"/>
              <a:ext cx="457200" cy="4176720"/>
              <a:chOff x="7010280" y="2146320"/>
              <a:chExt cx="457200" cy="417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7010280" y="214632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34040" y="225612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3138480" y="3184560"/>
            <a:ext cx="244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2438280"/>
            <a:ext cx="533160" cy="6098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0" y="3352680"/>
            <a:ext cx="533520" cy="60984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4572000"/>
            <a:ext cx="533520" cy="609480"/>
          </a:xfrm>
          <a:prstGeom prst="foldedCorner">
            <a:avLst>
              <a:gd name="adj" fmla="val 12500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5486400"/>
            <a:ext cx="533520" cy="60948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43200" y="2057400"/>
            <a:ext cx="3048120" cy="838080"/>
            <a:chOff x="2743200" y="2057400"/>
            <a:chExt cx="3048120" cy="838080"/>
          </a:xfrm>
        </p:grpSpPr>
        <p:sp>
          <p:nvSpPr>
            <p:cNvPr id="123" name=""/>
            <p:cNvSpPr/>
            <p:nvPr/>
          </p:nvSpPr>
          <p:spPr>
            <a:xfrm>
              <a:off x="2819520" y="2895480"/>
              <a:ext cx="297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3200" y="205740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harvest within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date ran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838080" y="3352680"/>
            <a:ext cx="7239240" cy="2743200"/>
            <a:chOff x="838080" y="3352680"/>
            <a:chExt cx="7239240" cy="2743200"/>
          </a:xfrm>
        </p:grpSpPr>
        <p:sp>
          <p:nvSpPr>
            <p:cNvPr id="126" name=""/>
            <p:cNvSpPr/>
            <p:nvPr/>
          </p:nvSpPr>
          <p:spPr>
            <a:xfrm>
              <a:off x="1981080" y="3809880"/>
              <a:ext cx="609624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3352680"/>
              <a:ext cx="838440" cy="838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5257800"/>
              <a:ext cx="838440" cy="8380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1080" y="5638680"/>
              <a:ext cx="609624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selective harvesting - set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33760" y="2146320"/>
            <a:ext cx="1524240" cy="4176720"/>
            <a:chOff x="5333760" y="2146320"/>
            <a:chExt cx="1524240" cy="4176720"/>
          </a:xfrm>
        </p:grpSpPr>
        <p:grpSp>
          <p:nvGrpSpPr>
            <p:cNvPr id="132" name=""/>
            <p:cNvGrpSpPr/>
            <p:nvPr/>
          </p:nvGrpSpPr>
          <p:grpSpPr>
            <a:xfrm>
              <a:off x="5333760" y="2438280"/>
              <a:ext cx="1066680" cy="3581640"/>
              <a:chOff x="5333760" y="2438280"/>
              <a:chExt cx="1066680" cy="3581640"/>
            </a:xfrm>
          </p:grpSpPr>
          <p:sp>
            <p:nvSpPr>
              <p:cNvPr id="133" name=""/>
              <p:cNvSpPr/>
              <p:nvPr/>
            </p:nvSpPr>
            <p:spPr>
              <a:xfrm rot="5400000">
                <a:off x="4076280" y="3695760"/>
                <a:ext cx="3581640" cy="10666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34" name="OA50" descr=""/>
              <p:cNvPicPr/>
              <p:nvPr/>
            </p:nvPicPr>
            <p:blipFill>
              <a:blip r:embed="rId1"/>
              <a:stretch/>
            </p:blipFill>
            <p:spPr>
              <a:xfrm>
                <a:off x="5629320" y="4062240"/>
                <a:ext cx="47628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"/>
            <p:cNvGrpSpPr/>
            <p:nvPr/>
          </p:nvGrpSpPr>
          <p:grpSpPr>
            <a:xfrm>
              <a:off x="6400800" y="2146320"/>
              <a:ext cx="457200" cy="4176720"/>
              <a:chOff x="6400800" y="2146320"/>
              <a:chExt cx="457200" cy="4176720"/>
            </a:xfrm>
          </p:grpSpPr>
          <p:sp>
            <p:nvSpPr>
              <p:cNvPr id="136" name=""/>
              <p:cNvSpPr/>
              <p:nvPr/>
            </p:nvSpPr>
            <p:spPr>
              <a:xfrm>
                <a:off x="6400800" y="2146320"/>
                <a:ext cx="457200" cy="41767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24560" y="2256120"/>
                <a:ext cx="401400" cy="375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nl-BE" sz="2400" spc="-1" strike="noStrike">
                    <a:solidFill>
                      <a:srgbClr val="ffffff"/>
                    </a:solidFill>
                    <a:latin typeface="Times New Roman"/>
                  </a:rPr>
                  <a:t>repos i tor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138480" y="3184560"/>
            <a:ext cx="244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81080" y="2362320"/>
            <a:ext cx="2971800" cy="533160"/>
            <a:chOff x="1981080" y="2362320"/>
            <a:chExt cx="2971800" cy="533160"/>
          </a:xfrm>
        </p:grpSpPr>
        <p:sp>
          <p:nvSpPr>
            <p:cNvPr id="140" name=""/>
            <p:cNvSpPr/>
            <p:nvPr/>
          </p:nvSpPr>
          <p:spPr>
            <a:xfrm>
              <a:off x="1981080" y="2895480"/>
              <a:ext cx="297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080" y="23623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harvest within 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15200" y="4191120"/>
            <a:ext cx="1600200" cy="14475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4495680"/>
            <a:ext cx="380880" cy="45720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4648320"/>
            <a:ext cx="381240" cy="45720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77320" y="4800600"/>
            <a:ext cx="380880" cy="457200"/>
          </a:xfrm>
          <a:prstGeom prst="foldedCorner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315200" y="2133720"/>
            <a:ext cx="1600200" cy="1828800"/>
            <a:chOff x="7315200" y="2133720"/>
            <a:chExt cx="1600200" cy="1828800"/>
          </a:xfrm>
        </p:grpSpPr>
        <p:grpSp>
          <p:nvGrpSpPr>
            <p:cNvPr id="147" name=""/>
            <p:cNvGrpSpPr/>
            <p:nvPr/>
          </p:nvGrpSpPr>
          <p:grpSpPr>
            <a:xfrm>
              <a:off x="7315200" y="2133720"/>
              <a:ext cx="1600200" cy="1828800"/>
              <a:chOff x="7315200" y="2133720"/>
              <a:chExt cx="1600200" cy="1828800"/>
            </a:xfrm>
          </p:grpSpPr>
          <p:sp>
            <p:nvSpPr>
              <p:cNvPr id="148" name=""/>
              <p:cNvSpPr/>
              <p:nvPr/>
            </p:nvSpPr>
            <p:spPr>
              <a:xfrm>
                <a:off x="7315200" y="2514600"/>
                <a:ext cx="1600200" cy="144792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48720" y="21337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S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7772400" y="2819520"/>
              <a:ext cx="380880" cy="457200"/>
            </a:xfrm>
            <a:prstGeom prst="foldedCorner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24680" y="2971800"/>
              <a:ext cx="381240" cy="457200"/>
            </a:xfrm>
            <a:prstGeom prst="foldedCorner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77320" y="3124080"/>
              <a:ext cx="380880" cy="457200"/>
            </a:xfrm>
            <a:prstGeom prst="foldedCorner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38080" y="4495680"/>
            <a:ext cx="6324840" cy="1143000"/>
            <a:chOff x="838080" y="4495680"/>
            <a:chExt cx="6324840" cy="1143000"/>
          </a:xfrm>
        </p:grpSpPr>
        <p:sp>
          <p:nvSpPr>
            <p:cNvPr id="154" name=""/>
            <p:cNvSpPr/>
            <p:nvPr/>
          </p:nvSpPr>
          <p:spPr>
            <a:xfrm>
              <a:off x="838080" y="4495680"/>
              <a:ext cx="838440" cy="83844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1080" y="4876920"/>
              <a:ext cx="518184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4648320"/>
              <a:ext cx="838080" cy="8380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4800600"/>
              <a:ext cx="838080" cy="83808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906680" y="56386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set specific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sitories define hierarchical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item in a repository may be organized in one set, several sets, or no sets at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 of sets or of set hierarchy is not defined in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communities may formulate common set configu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HTTP encoding - requests</a:t>
            </a:r>
            <a:endParaRPr b="0" lang="en-US" sz="4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1337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ASE-URL -----------&gt;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.oa.org/OAI-scrip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eyword arguments --&gt;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erb=ListIdentifers&amp;set=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32004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http://an.oa.org/OAI-script?verb=ListIdentifers&amp;set=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09896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S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POST http://an.oa.org/OAI-script HTTP/1.0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Content-Length: 78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Content-Type: application/x-www-form-urlencod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verb=ListIdentifers&amp;set=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15:34:48Z</dcterms:created>
  <dc:creator>165868</dc:creator>
  <dc:description/>
  <dc:language>en-US</dc:language>
  <cp:lastModifiedBy>lagoze</cp:lastModifiedBy>
  <dcterms:modified xsi:type="dcterms:W3CDTF">2001-01-26T19:36:38Z</dcterms:modified>
  <cp:revision>486</cp:revision>
  <dc:subject/>
  <dc:title>No Slide Title</dc:title>
</cp:coreProperties>
</file>